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1C52-48ED-426B-8FDD-8761AB925E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3AC3-4DFA-439E-A384-983CBE267D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36B-5860-4801-8710-F28F7299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4B5-4309-42CC-BFF7-0999AC24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C18-DE3B-4DB9-BF7F-F5DFA7C6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9CD-DF66-43E5-9438-B05D4FCF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145-806C-4CA0-8704-54BF4E86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A68-F5E2-4373-91C2-EE27B360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097-B3FB-4680-AA1B-A6B4578D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0EA-27FF-4464-BAC4-F62E74C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686-57BB-401B-A14F-31F39D98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318-4D97-4606-AFFF-3FF4BA4C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349-98AA-4609-97E5-73F24E2A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ACA-017C-4F18-B5AB-0BDE4CF3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E1A3-D8E1-4B0E-858F-86A0B7FDEAF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ipi.ru/content/otkrytyy-bank-zadaniy-oge" TargetMode="External"/><Relationship Id="rId2" Type="http://schemas.openxmlformats.org/officeDocument/2006/relationships/hyperlink" Target="http://www.fipi.ru/content/otkrytyy-bank-zadaniy-oge" TargetMode="External"/><Relationship Id="rId3" Type="http://schemas.openxmlformats.org/officeDocument/2006/relationships/hyperlink" Target="https://www.ege.spb.ru/" TargetMode="External"/><Relationship Id="rId4" Type="http://schemas.openxmlformats.org/officeDocument/2006/relationships/hyperlink" Target="https://www.ege.spb.ru/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2760" y="691920"/>
            <a:ext cx="8497800" cy="53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 Light"/>
              </a:rPr>
              <a:t>О проведении государственной итоговой аттестации по образовательным программам основного общего образования в 2021-2022 учебном году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0"/>
          <p:cNvSpPr/>
          <p:nvPr/>
        </p:nvSpPr>
        <p:spPr>
          <a:xfrm>
            <a:off x="2560680" y="692280"/>
            <a:ext cx="80661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ой государственный экзамен (ОГЭ) проводи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бучающихся образовательных организа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использованием контрольно-измерительных материалов (КИ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т экзамена приближен к формату ЕГ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274680" y="4025880"/>
            <a:ext cx="2100240" cy="117468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май-ию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7"/>
          <p:cNvSpPr/>
          <p:nvPr/>
        </p:nvSpPr>
        <p:spPr>
          <a:xfrm>
            <a:off x="274680" y="5392800"/>
            <a:ext cx="2179440" cy="11491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полнительный период (сентябрь)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ятиугольник 8"/>
          <p:cNvSpPr/>
          <p:nvPr/>
        </p:nvSpPr>
        <p:spPr>
          <a:xfrm flipH="1">
            <a:off x="2819520" y="4025880"/>
            <a:ext cx="8634240" cy="1174680"/>
          </a:xfrm>
          <a:custGeom>
            <a:avLst/>
            <a:gdLst>
              <a:gd name="textAreaLeft" fmla="*/ 360 w 8634240"/>
              <a:gd name="textAreaRight" fmla="*/ 8634960 w 8634240"/>
              <a:gd name="textAreaTop" fmla="*/ 0 h 1174680"/>
              <a:gd name="textAreaBottom" fmla="*/ 1175040 h 11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1" y="0"/>
                </a:lnTo>
                <a:lnTo>
                  <a:pt x="21600" y="10800"/>
                </a:lnTo>
                <a:lnTo>
                  <a:pt x="201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всех выпускников 9-ых классов. Обучающиеся, у которых совпали сроки проведения экзаменов по отдельным учебным предметам, участвуют в экзаменах по соответствующим учебным  предметам в резервные сроки основного периода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ятиугольник 9"/>
          <p:cNvSpPr/>
          <p:nvPr/>
        </p:nvSpPr>
        <p:spPr>
          <a:xfrm flipH="1">
            <a:off x="2819520" y="5392800"/>
            <a:ext cx="8634240" cy="1187280"/>
          </a:xfrm>
          <a:custGeom>
            <a:avLst/>
            <a:gdLst>
              <a:gd name="textAreaLeft" fmla="*/ 360 w 8634240"/>
              <a:gd name="textAreaRight" fmla="*/ 8634960 w 8634240"/>
              <a:gd name="textAreaTop" fmla="*/ 0 h 1187280"/>
              <a:gd name="textAreaBottom" fmla="*/ 1187280 h 11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5" y="0"/>
                </a:lnTo>
                <a:lnTo>
                  <a:pt x="21600" y="10800"/>
                </a:lnTo>
                <a:lnTo>
                  <a:pt x="201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бучающихся, не прошедших ГИА-9 или получивших неудовлетворительные результаты более чем по двум учебным предметам либо получившим повторно неудовлетворительный результат по одному или двум учебным предметам  в резервные сроки основн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1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66800" y="557280"/>
            <a:ext cx="547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Получение аттестат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11520" y="1915920"/>
            <a:ext cx="8076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2021-2022 учебном году основанием для получения аттестата об основном общем образовании является успешное прохождение ГИА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о русскому языку и математик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 также по 2 предмет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о выбо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аттестат выставляются итоговые отметки по предметам, которые изучались выпускниками в 5-9 класс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асс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92240" y="333360"/>
            <a:ext cx="5473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и в аттестате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87120" y="1412640"/>
            <a:ext cx="10512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каз Министерства Просвещения РФ от 5 октября 2020 г. № 546 «Об утверждении Порядка заполнения, учета и выдачи аттестатов об основном общем и среднем общем образовании и их дубликатов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Итоговые отметки за 9 класс по учебным предметам «Русский язык», «Математика» определяются как среднее арифметическое годовой отметки и экзаменационной и выставляются в аттестат целыми числами в соответствии с правилами математического округ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в учебном плане указаны предметы «Алгебра» и «Геометрия», то в аттестате указывается предмет «Математика». Итоговая отметка определяется как среднее арифметическое трех отметок: годовые отметки по предметам «Алгебра», «Геометрия» и экзаменационная отметка в соответствии с правилами математического округл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Итоговые отметки за 9 класс по другим учебным предметам выставляются   на основе годовой отметки выпускника за 9 клас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тестат с отличием – все итоговые оценки «отлично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4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27160" y="333360"/>
            <a:ext cx="7561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Изменения предметов по выбору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март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ающиеся вправе изменить перечень указанных в заявлении экзаменов, а также форму ГИА-9 только при наличии у них уважительных причин (болезни или иных обстоятельств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дтвержденных документальн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м случае обучающиеся подают заявление в государственную экзаменационную комиссию (далее – ГЭК) (документы предоставляются ответственному в лицее за организацию ГИА) с указанием измененного перечня учебных предметов и (или) измененной формы ГИА-9, а также причины изменения. Указанное заявление подается не позднее чем за две недели до начала соответствующих экзамен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51160" y="620640"/>
            <a:ext cx="4826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ация ГИА - 9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1160" y="21333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Пишем в ППЭ (другое О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Организаторы  – учителя из других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Сопровождение  - учителя школы (до  выхода последнего обучающегося из аудитории ППЭ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Рассадка – по одному человеку за парт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Памятка с датами – каждом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4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Текст 2"/>
          <p:cNvSpPr/>
          <p:nvPr/>
        </p:nvSpPr>
        <p:spPr>
          <a:xfrm>
            <a:off x="222120" y="2133720"/>
            <a:ext cx="1174752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заменационная работа выполняетс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рабочем стол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жет находиться: ручка (2 шт.), документ, удостоверяющий личность, разрешенн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ельз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аться друг с друг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мещаться по аудитор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меть при себе средства связи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При нарушении правил составляется акт  и обучающийся удаляется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кты об удалении направляются в ГЭ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58800" y="549360"/>
            <a:ext cx="72738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авила поведения на экзамен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Picture 1202" descr=""/>
          <p:cNvPicPr/>
          <p:nvPr/>
        </p:nvPicPr>
        <p:blipFill>
          <a:blip r:embed="rId1"/>
          <a:stretch/>
        </p:blipFill>
        <p:spPr>
          <a:xfrm>
            <a:off x="6060960" y="4221000"/>
            <a:ext cx="1441440" cy="13017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0" descr=""/>
          <p:cNvPicPr/>
          <p:nvPr/>
        </p:nvPicPr>
        <p:blipFill>
          <a:blip r:embed="rId2"/>
          <a:stretch/>
        </p:blipFill>
        <p:spPr>
          <a:xfrm>
            <a:off x="6026040" y="4164120"/>
            <a:ext cx="1511280" cy="14446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D:\сайт\logo2-1.png"/>
          <p:cNvPicPr/>
          <p:nvPr/>
        </p:nvPicPr>
        <p:blipFill>
          <a:blip r:embed="rId3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08600" y="260280"/>
            <a:ext cx="4897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ЙТЫ В ПОМОЩЬ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155520" y="2017800"/>
            <a:ext cx="1105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рытый банк заданий ОГЭ </a:t>
            </a:r>
            <a:r>
              <a:rPr b="0" lang="ru-RU" sz="2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ru-RU" sz="2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fipi.ru/content/otkrytyy-bank-zadaniy-o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ициальный информационный портал государственной итоговой аттестации выпускников 9 и 11 классов в Санкт – Петербурге 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s://www.ege.spb.ru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9" descr="D:\сайт\logo2-1.png"/>
          <p:cNvPicPr/>
          <p:nvPr/>
        </p:nvPicPr>
        <p:blipFill>
          <a:blip r:embed="rId5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08600" y="28440"/>
            <a:ext cx="4897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Нормативная баз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2205000"/>
            <a:ext cx="38163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бучающиеся проходят государственную итоговую аттестацию по образовательным программам основного общего образования (ГИА-9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по двум обязательным учебным предме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(русский язык и математика)</a:t>
            </a:r>
            <a:r>
              <a:rPr b="1" lang="ru-RU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 также по </a:t>
            </a:r>
            <a:r>
              <a:rPr b="1" lang="ru-RU" sz="20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двум учебным предметам по выбору обучающего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ятиугольник 5"/>
          <p:cNvSpPr/>
          <p:nvPr/>
        </p:nvSpPr>
        <p:spPr>
          <a:xfrm flipH="1">
            <a:off x="4376880" y="1989000"/>
            <a:ext cx="7503840" cy="2016360"/>
          </a:xfrm>
          <a:custGeom>
            <a:avLst/>
            <a:gdLst>
              <a:gd name="textAreaLeft" fmla="*/ 360 w 7503840"/>
              <a:gd name="textAreaRight" fmla="*/ 7504560 w 750384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8" y="0"/>
                </a:lnTo>
                <a:lnTo>
                  <a:pt x="21600" y="10800"/>
                </a:lnTo>
                <a:lnTo>
                  <a:pt x="186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dc3e6"/>
          </a:soli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ая итоговая аттестация (ГИА-9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ершает освоение основных образовательных програ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обязательной для всех выпускников 9-ых кла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ет на получение аттестата об основном общем образ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итогам ОГЭ (основной государственный экзамен) школьник сможет продолжить обучение и сдать через два года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ятиугольник 6"/>
          <p:cNvSpPr/>
          <p:nvPr/>
        </p:nvSpPr>
        <p:spPr>
          <a:xfrm flipH="1">
            <a:off x="4419720" y="4365720"/>
            <a:ext cx="7418160" cy="1936800"/>
          </a:xfrm>
          <a:custGeom>
            <a:avLst/>
            <a:gdLst>
              <a:gd name="textAreaLeft" fmla="*/ 360 w 7418160"/>
              <a:gd name="textAreaRight" fmla="*/ 7418880 w 741816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0" y="0"/>
                </a:lnTo>
                <a:lnTo>
                  <a:pt x="21600" y="10800"/>
                </a:lnTo>
                <a:lnTo>
                  <a:pt x="187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ГИА-9 допускаются обучаю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имеющие академической задолж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ющие годовые отметки по всем учебным предметам за все года обучения и за 9 класс не ниже удовлетворитель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ющие результат «зачёт» за итоговое собеседование по русскому язы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361800" y="6396120"/>
            <a:ext cx="1144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сылк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brnadzor.gov.ru/ron_doc/prikaz-minprosveshheniya-rossii-i-rosobrnadzora-ot-07-11-2018-%E2%84%96-189-1513-ob-utverzhdenii-poryadka-provedeniya-gosudarstvennoj-itogovoj-attestaczii-po-obrazovatelnym-programmam-osnovnogo-ob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80880" y="649440"/>
            <a:ext cx="116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просвещения России (Министерства просвещения РФ), Рособрнадзора (Федеральная служба по надзору в сфере образования и науки) от 07 ноября 2018 г. №189/1513 "Об утверждении Порядка проведения государственной итоговой аттестации по образовательным программам основного общего образования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1520" y="333360"/>
            <a:ext cx="6049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редметы по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выбору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9880" y="2204640"/>
            <a:ext cx="10515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зи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ормати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м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остранные языки (английский, французский, немецкий и испанский язы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иоло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ограф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тор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тератур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ществозн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1880" y="260280"/>
            <a:ext cx="5761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Продолжительность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ОГЭ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407880" y="2136600"/>
            <a:ext cx="1101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тематика, русский язык, литератур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3 часа 55 минут (235 мину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физика, обществознание, история, биология</a:t>
            </a: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3 часа (180 мину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еография, химия, иностранные язы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- 2 часа (120 минут);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нформатика и ИК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2 часа 30 минут (150 мину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ностранные язык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аздел "Говорение") - 1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5160" y="503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Особенности проведения ГИА-9 в 2021 уч. г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1160" y="22762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мена досрочного пери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ращение общего количества экзаменов до двух обязате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ача одного из обязательных учебных предметов участниками с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ВЗ (русский язык или математи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ение технологии передачи экзаменационных материалов ОГЭ по защищенной сети в ПП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ение технологии печати ЭМ ОГЭ в аудитории, сканирование ЭМ в Штабе ПП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39520" y="333360"/>
            <a:ext cx="7993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Итоговое собеседование по русскому языку как допуск к ГИА - 9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1160" y="2204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Итоговое собеседование по русскому языку состоит из четырёх зад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Задания 1 и 2 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ыполняются с использованием одного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Задание 1 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– чтение вслух небольшого текста. Время на подготовку –2 мину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 задании 2 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едлагается пересказать прочитанный текст, дополнив высказыванием. Время на подготовку – 1 мину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Задания 3 и 4 не связаны 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 текстом, который читали и пересказывали, выполняя задания 1 и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66800" y="333360"/>
            <a:ext cx="756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Итоговое собеседование по русскому языку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1160" y="2204640"/>
            <a:ext cx="10515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 задании 3 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едлагается выбрать один из трёх предложенных вариантов беседы: описание фотографии, повествование на основе жизненного опыта, рассуждение по одной из сформулированных проб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ремя на подготовку – 1 мину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 задании 4 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едлагается</a:t>
            </a: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оучаствовать в беседе по т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едыдущего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бщее время (включая время на подготовку) – 15 ми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Максимальный балл – </a:t>
            </a:r>
            <a:r>
              <a:rPr b="1" lang="en-US" sz="24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20</a:t>
            </a:r>
            <a:r>
              <a:rPr b="1" lang="ru-RU" sz="24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, зачет от 10 и более б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4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47880" y="404280"/>
            <a:ext cx="88567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Сроки проведения итогового собеседован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07880" y="1699920"/>
            <a:ext cx="11520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404040"/>
                </a:solidFill>
                <a:latin typeface="Calibri Light"/>
                <a:ea typeface="Times New Roman"/>
              </a:rPr>
              <a:t>По аналогии со схемой проведения итогового сочинения в 11 классах будет предусмотре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три даты для прохождения устного собеседования в 9 класс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вторая среда  февраля,  марта,  первый рабочий понедельник мая 2022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(если не будет изменен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 Light"/>
                <a:ea typeface="Times New Roman"/>
              </a:rPr>
              <a:t>У обучающихся есть две попытки его пересдать при получении незачета, либо возможность пройти устное собеседование в один из дополнительных дне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 Light"/>
                <a:ea typeface="Times New Roman"/>
              </a:rPr>
              <a:t>если кто-то не явился по уважительной прич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4" descr=""/>
          <p:cNvPicPr/>
          <p:nvPr/>
        </p:nvPicPr>
        <p:blipFill>
          <a:blip r:embed="rId1"/>
          <a:stretch/>
        </p:blipFill>
        <p:spPr>
          <a:xfrm>
            <a:off x="3828960" y="3919680"/>
            <a:ext cx="4430880" cy="1682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D:\сайт\logo2-1.png"/>
          <p:cNvPicPr/>
          <p:nvPr/>
        </p:nvPicPr>
        <p:blipFill>
          <a:blip r:embed="rId2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39520" y="557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Повторная сдача ГИА в текущем году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1160" y="2060640"/>
            <a:ext cx="105156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овторно к сдаче ГИА-9 в текущем году по решению ГЭ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допускаются обучающиес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олучившие на ГИА-9 неудовлетворительные результа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не более чем по двум учебным предме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(из числа обязательных и по выбор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4" descr="D:\сайт\logo2-1.png"/>
          <p:cNvPicPr/>
          <p:nvPr/>
        </p:nvPicPr>
        <p:blipFill>
          <a:blip r:embed="rId1"/>
          <a:stretch/>
        </p:blipFill>
        <p:spPr>
          <a:xfrm>
            <a:off x="550800" y="376200"/>
            <a:ext cx="1462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3:57:45Z</dcterms:created>
  <dc:creator>XXX</dc:creator>
  <dc:description/>
  <dc:language>en-US</dc:language>
  <cp:lastModifiedBy>Никонова Юлия Ивановна</cp:lastModifiedBy>
  <dcterms:modified xsi:type="dcterms:W3CDTF">2021-11-19T06:40:49Z</dcterms:modified>
  <cp:revision>219</cp:revision>
  <dc:subject/>
  <dc:title>Презентация учебного кур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49</vt:lpwstr>
  </property>
</Properties>
</file>